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E08-1F12-4E1C-893E-D9412798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5C6-88F1-44BD-83AE-A2085C0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4E5-3098-4BFA-9633-A33FDFEF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A25-BFC1-4570-8124-6A3B2FF7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45C-C6D0-426C-B4D2-887C155A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802-BCBF-4449-BBA8-26C3B931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E74-0A32-4639-8BD6-84B2D2D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E06-BA68-4F44-A88A-A303049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8B1-1B67-4364-A56D-F568CCA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9B7-184C-4053-98A4-C07D752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C86-3CC4-4126-ABB5-20FA61C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34A-9DE3-403E-BB7B-37C0733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2771-F98C-4BEE-97CB-465922BE2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upload.wikimedia.org/wikipedia/en/6/6c/MactanShrineTower2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24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320" y="3200040"/>
            <a:ext cx="4419720" cy="6858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rdinand Magel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faqs.org/docs/factbook/reference_maps/jpg/political_world.jpg"/>
          <p:cNvPicPr/>
          <p:nvPr/>
        </p:nvPicPr>
        <p:blipFill>
          <a:blip r:embed="rId2"/>
          <a:stretch/>
        </p:blipFill>
        <p:spPr>
          <a:xfrm>
            <a:off x="27000" y="838080"/>
            <a:ext cx="9117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bcaa.com/images/content/magellan-gps.gif"/>
          <p:cNvPicPr/>
          <p:nvPr/>
        </p:nvPicPr>
        <p:blipFill>
          <a:blip r:embed="rId2"/>
          <a:stretch/>
        </p:blipFill>
        <p:spPr>
          <a:xfrm>
            <a:off x="990720" y="304920"/>
            <a:ext cx="2828880" cy="229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b3.indo-work.com/pdimage/88/687888_668723_magellan_triton_2000_gps.jpg"/>
          <p:cNvPicPr/>
          <p:nvPr/>
        </p:nvPicPr>
        <p:blipFill>
          <a:blip r:embed="rId3"/>
          <a:stretch/>
        </p:blipFill>
        <p:spPr>
          <a:xfrm>
            <a:off x="4324320" y="609480"/>
            <a:ext cx="4819680" cy="481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gpsautotracker.info/wp-content/uploads/2008/04/magellan_gps_blazer12.jpg"/>
          <p:cNvPicPr/>
          <p:nvPr/>
        </p:nvPicPr>
        <p:blipFill>
          <a:blip r:embed="rId4"/>
          <a:stretch/>
        </p:blipFill>
        <p:spPr>
          <a:xfrm>
            <a:off x="380880" y="3276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rdinand Magel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57600" y="304560"/>
            <a:ext cx="548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rtuguese ________and ________ who sailed for ________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lieved he could sail west, go around __________ America, cross the _________ Ocean, and end up back in ____________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ft Spain in September _________ with five ships and about _______ m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named the ___________ Ocean because it looked so calm. They didn’t know how ________ it wa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gellan was _________ in a battle with the people on the _____________ Islan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w returned September ________ with one ship and ________ members of the original cre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gellan’s crew became the first explorers to __________________ the worl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media-2.web.britannica.com/eb-media/47/75647-004-045482B7.jpg"/>
          <p:cNvPicPr/>
          <p:nvPr/>
        </p:nvPicPr>
        <p:blipFill>
          <a:blip r:embed="rId1"/>
          <a:stretch/>
        </p:blipFill>
        <p:spPr>
          <a:xfrm>
            <a:off x="228600" y="1828800"/>
            <a:ext cx="3333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sonenvir.at/data/magellan/magellan.png"/>
          <p:cNvPicPr/>
          <p:nvPr/>
        </p:nvPicPr>
        <p:blipFill>
          <a:blip r:embed="rId2"/>
          <a:stretch/>
        </p:blipFill>
        <p:spPr>
          <a:xfrm>
            <a:off x="246240" y="762120"/>
            <a:ext cx="8669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http://l.yimg.com/g/images/spaceball.gif"/>
          <p:cNvPicPr/>
          <p:nvPr/>
        </p:nvPicPr>
        <p:blipFill>
          <a:blip r:embed="rId2"/>
          <a:stretch/>
        </p:blipFill>
        <p:spPr>
          <a:xfrm>
            <a:off x="4006800" y="-2305080"/>
            <a:ext cx="3133800" cy="47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farm1.static.flickr.com/7/9506129_fa75cf791b.jpg?v=0"/>
          <p:cNvPicPr/>
          <p:nvPr/>
        </p:nvPicPr>
        <p:blipFill>
          <a:blip r:embed="rId3"/>
          <a:stretch/>
        </p:blipFill>
        <p:spPr>
          <a:xfrm>
            <a:off x="5029200" y="990720"/>
            <a:ext cx="3362400" cy="511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Image:MactanShrineTower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7968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Ferdinand Magella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4"/>
          <p:cNvSpPr/>
          <p:nvPr/>
        </p:nvSpPr>
        <p:spPr>
          <a:xfrm>
            <a:off x="5335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24T12:04:55Z</dcterms:modified>
  <cp:revision>37</cp:revision>
  <dc:subject/>
  <dc:title>Famous People Friday</dc:title>
</cp:coreProperties>
</file>